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553255"/>
        <c:axId val="78746411"/>
      </c:barChart>
      <c:catAx>
        <c:axId val="655532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46411"/>
        <c:crosses val="autoZero"/>
        <c:auto val="1"/>
        <c:lblAlgn val="ctr"/>
        <c:lblOffset val="100"/>
        <c:noMultiLvlLbl val="0"/>
      </c:catAx>
      <c:valAx>
        <c:axId val="787464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532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AB1A-B5E3-4883-A77D-105C5E0F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8A59-B465-4CD5-96F3-20EA8351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3537-83DB-46C4-A645-9872AE5D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0E85-0B68-4EC8-9E02-F8357792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BCB7-92AE-4CC7-A2B8-B88AA69B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15D0-13D0-431A-86EB-02A5CB61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D9C3-367C-4DA3-969B-A77BCCA0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6B71-97AE-41D2-B7E6-3F51C466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1B1B-B7B5-49DF-AC83-7F07D129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B5E0-960A-4839-8990-FE4FDA30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9B53-68D1-4597-942F-E57FC726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9436-DF52-4D48-9645-3032A81D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4D1F2-7130-4072-8D53-D204426F25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