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52861"/>
        <c:axId val="20354586"/>
      </c:barChart>
      <c:catAx>
        <c:axId val="336528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54586"/>
        <c:crosses val="autoZero"/>
        <c:auto val="1"/>
        <c:lblAlgn val="ctr"/>
        <c:lblOffset val="100"/>
        <c:noMultiLvlLbl val="0"/>
      </c:catAx>
      <c:valAx>
        <c:axId val="20354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528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33BC-6715-4529-8F7A-A82C1E88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9F2-6A40-4201-9D3C-317CC7B5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991-34C6-4E56-A894-4B7B74B3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0AD5-F372-4CD9-B0D8-F30C0E29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485-931E-4771-BE55-3DCBD1BF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F7E-2D86-4752-A62F-2D8AC6CD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08D-7BEC-4173-A89A-38AF8FD6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9DB-A1AE-4F03-B749-B9B744A7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5395-18C7-4D05-816F-0213DAE2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E22-DC41-4E48-AC4E-A3EE3654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20A-96B2-4416-AB1B-D523D9D4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75B-4F3D-494F-B5E6-162846AB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2FBEE-4A82-4BC7-A833-741A6C9B9A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