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70662"/>
        <c:axId val="21215553"/>
      </c:barChart>
      <c:catAx>
        <c:axId val="890706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15553"/>
        <c:crosses val="autoZero"/>
        <c:auto val="1"/>
        <c:lblAlgn val="ctr"/>
        <c:lblOffset val="100"/>
        <c:noMultiLvlLbl val="0"/>
      </c:catAx>
      <c:valAx>
        <c:axId val="21215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706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ED2-785E-4C91-B7EF-AE05EE10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AD4-5F72-4514-B4E4-66402551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980-1F80-4113-AE6C-4C221A54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BED-053C-4F4C-BFE6-205B9C81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405-DAD7-4276-8D86-B15A23A7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AB2-A694-45BF-8C7C-A2885394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034-C53C-469C-8C81-7C0E1A40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6AE-B36D-4A71-84BF-AA886D40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265-3D22-441A-93FA-1D5CF919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067-94AA-4B33-96F8-95C82C13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F5D-7C32-4BC4-B4D1-444C422D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6FB-6A27-448C-B06B-50B973D8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0B5CD-AFD9-46CD-8C66-BB24672030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