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24210"/>
        <c:axId val="33119585"/>
      </c:barChart>
      <c:catAx>
        <c:axId val="25624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19585"/>
        <c:crosses val="autoZero"/>
        <c:auto val="1"/>
        <c:lblAlgn val="ctr"/>
        <c:lblOffset val="100"/>
        <c:noMultiLvlLbl val="0"/>
      </c:catAx>
      <c:valAx>
        <c:axId val="33119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24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8BC9-B6E0-4F2C-94EB-75B4DFC4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76F-48C1-472B-B847-EBFFDBAA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056-6133-4A0B-9789-921647F2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FE0-8515-42D0-80B5-91F1D337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E379-004E-447F-AEC4-A7E8AEF0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FF6-9B07-480C-BB00-FFD0CFE9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FE5B-FD61-4C12-AE63-D8AE9D76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BC10-1C8D-4CCE-A1AA-3EAD4A87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D9B9-A6EA-4239-B90F-85B80A4B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A839-1B52-4F57-9D68-37846655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471-EB34-47F1-B588-5613CA1A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C2D9-29E3-4015-BFBB-8ED457CB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EC396-41CF-4AC9-9232-E42F5D972E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