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76382"/>
        <c:axId val="77336510"/>
      </c:barChart>
      <c:catAx>
        <c:axId val="64476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36510"/>
        <c:crosses val="autoZero"/>
        <c:auto val="1"/>
        <c:lblAlgn val="ctr"/>
        <c:lblOffset val="100"/>
        <c:noMultiLvlLbl val="0"/>
      </c:catAx>
      <c:valAx>
        <c:axId val="77336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76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7B9-6C1B-494B-A596-C5CC5ABB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9DE-670F-4C56-A8A3-DEA8FC93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00E-2065-48A5-9A38-46808305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200-B322-4A0A-93A1-15A8BD0E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3DA-15D1-45EB-AA06-43E926E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F76-2B7B-4278-BBAA-D55C0D8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C73-2F19-4CE8-AD78-92B2451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46B-4E98-46BF-A263-22744D94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4B4-BF4B-4158-8116-C665E04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C0D-EC69-483D-820E-72EC253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B5-962B-44C1-AB00-A2D1934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623-EDE1-4939-8C4A-708673C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35B2-A7AA-4C74-9FD9-5BD500A41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