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32347"/>
        <c:axId val="17137363"/>
      </c:barChart>
      <c:catAx>
        <c:axId val="75032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37363"/>
        <c:crosses val="autoZero"/>
        <c:auto val="1"/>
        <c:lblAlgn val="ctr"/>
        <c:lblOffset val="100"/>
        <c:noMultiLvlLbl val="0"/>
      </c:catAx>
      <c:valAx>
        <c:axId val="17137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32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1E5-9F14-4C14-8636-1AFAF0A7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6A0-8D83-426E-B57F-C829801E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69D-9A09-4AB3-AD36-BD638418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7CB-9CC1-499E-B35E-0503FDE2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2CD-B84F-45C6-94FF-066B9A4D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DA5-38BC-44FB-AA75-C20CA96A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3F2-75ED-43FA-9C38-EA1E0F57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50D-938D-46E8-8729-4C55CC52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54F-6631-4A6D-A23F-9D20506A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A1B-385F-43D4-A55C-259798D1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F30-B81A-4620-BBF3-C811E395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046-51D3-4B2A-A971-BD8AAEAA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CBAD3-ABC3-4C01-AB58-D2323793A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