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385149"/>
        <c:axId val="50229782"/>
      </c:barChart>
      <c:catAx>
        <c:axId val="27385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29782"/>
        <c:crosses val="autoZero"/>
        <c:auto val="1"/>
        <c:lblAlgn val="ctr"/>
        <c:lblOffset val="100"/>
        <c:noMultiLvlLbl val="0"/>
      </c:catAx>
      <c:valAx>
        <c:axId val="50229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85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117-2D81-4C93-BF5E-01DF7DD4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D15-18F7-4BC1-B747-2C47E176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89E8-13F2-4F6D-AA9F-25BF9722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C8AA-5EC0-426F-A23F-7FDE06CA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5E7B-76AA-4502-AD08-216FE6A9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822E-FD71-430E-A722-6B1232B4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2B81-5A53-454F-9507-46800E42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5374-F36B-451D-B6C9-BF0A1F01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6B5D-537B-479E-8F7B-A6EF9077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057C-DDB7-4C8F-B4C1-4E5A8639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C8C6-B531-4393-97C5-CBFD441E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2177-7109-4E92-88E8-97CC6EB6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0B391-3FD3-4F73-9FAC-55E2976200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