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558962"/>
        <c:axId val="15504350"/>
      </c:barChart>
      <c:catAx>
        <c:axId val="695589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504350"/>
        <c:crosses val="autoZero"/>
        <c:auto val="1"/>
        <c:lblAlgn val="ctr"/>
        <c:lblOffset val="100"/>
        <c:noMultiLvlLbl val="0"/>
      </c:catAx>
      <c:valAx>
        <c:axId val="155043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5589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E761-E138-4739-A280-BEF54B82B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6909-FECC-4483-9669-B49464B70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F6B4-985F-482D-89A9-C92E09052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BA77-28DC-4C0B-A7D7-F6CC1C1FB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15BF-4C51-423F-A250-674E52BB8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A62B-D84A-4C2D-8310-9062B7767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7AA3-8153-4C13-AFFB-8BDCF0220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C72E-FE89-4643-B555-19A6DF576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050A-D202-4984-B182-4A847E277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6B11-54A4-4C13-8231-01ACBA6B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52A7-C4CE-4A89-9A34-6BDA93F1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343A-0018-4B60-9AF2-318EFE7B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97FE1A-9658-43BA-8344-B92BA4B14B0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