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15393"/>
        <c:axId val="69653458"/>
      </c:barChart>
      <c:catAx>
        <c:axId val="89715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3458"/>
        <c:crosses val="autoZero"/>
        <c:auto val="1"/>
        <c:lblAlgn val="ctr"/>
        <c:lblOffset val="100"/>
        <c:noMultiLvlLbl val="0"/>
      </c:catAx>
      <c:valAx>
        <c:axId val="69653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15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54F-EF61-4D50-BDEC-E55FFAE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8A0-4C82-46CB-9C66-BC89835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470-4166-496A-92A1-7BF64313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0CC-261D-4C31-8542-80E5BF7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317-0661-4584-8F39-0E70533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A32-A2EA-43E8-8379-BB32B82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0F3-BDEA-49DD-B8F6-3931C309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524-217C-41DE-967E-F97564D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582-31D1-4318-B261-5E5F9D2E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85A-F98A-4F0F-AA58-522BD86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C87-E9B9-4DC8-890B-9F47A27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AB4-6C3D-4201-813D-333B0A6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B5AA-4249-4765-B2BA-1C53F8AF6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