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84257"/>
        <c:axId val="91804195"/>
      </c:barChart>
      <c:catAx>
        <c:axId val="22384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04195"/>
        <c:crosses val="autoZero"/>
        <c:auto val="1"/>
        <c:lblAlgn val="ctr"/>
        <c:lblOffset val="100"/>
        <c:noMultiLvlLbl val="0"/>
      </c:catAx>
      <c:valAx>
        <c:axId val="9180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4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66A-A08E-4664-9479-8695E2C1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CF4-E8B5-4D71-AD53-1135E5D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85F-3DFF-43E1-8064-F086F56B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1A4-3749-4ABF-A188-8A624B2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8AD-34A0-418F-BF30-64EB3CB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423-7C2D-47C3-BF75-F3BFC22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EC9-D361-4F43-80FA-E3DF5D22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26D-8486-4209-A2FE-3257859D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8AB-E0F0-4B3C-A493-D37382F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4BD-FA89-4508-954B-E6675F4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C26-A963-4E05-90C5-C88C3FC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251-29D7-47EB-8DCE-674B009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ABB5-0841-4D6A-A7E8-6C18E77AA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